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D66D-747F-44D6-9702-7A134439D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man's Day Nov 27 2000 TV Day interview Katrina Hobbs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e Hattie, J., &amp; Purdie, N. (1998). The Solo model: Addressing fundamental measurement issues. In B. Dart, &amp; G. Boulton-Lewis. (Eds.). </a:t>
            </a:r>
            <a:r>
              <a:rPr b="0" i="1" lang="en-N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aching and learning in higher education.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Melbourne: ACER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D03-3951-4DE2-BEDB-7755BC9D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D27-ABD2-4740-ACCB-2AEEF921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754-E2F7-4C9E-9415-92B9C5EC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A33-E0CE-4E01-98A8-ABA1E855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98A-4D80-4FD4-A924-DA435D9B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F47-846C-4F8B-AA20-1B0FB295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243F-D9AD-4BCD-BDAF-D8C48919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7257-40A8-4C3C-8834-ED1B20CF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C77-A49E-43C9-B997-A74E9D33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66AB-718A-49EF-8F2F-44A7637C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A2E-EA0B-43B2-A8DE-8780EF86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A08C-D64D-40FA-BD05-C33335FD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B94E-9E36-4609-A4FF-B15813B03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ki.org.nz/r/assessment/atol_online/ppt/teacher_student_conversations_28.5.ppt" TargetMode="External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ki.org.nz/r/asttle/pdf/technical-reports/techreport43.pdf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ki.org.nz/r/assessment/atol_online/ppt/teacher_student_conversations_28.5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Quality Questioning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Using the SOLO Taxonom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nline workshop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587700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Adapted from a presentation by the Uniservices asTTl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14920" y="4221000"/>
            <a:ext cx="1514160" cy="15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41840" y="2344680"/>
            <a:ext cx="3962520" cy="3029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6600"/>
                </a:solidFill>
                <a:latin typeface="Arial"/>
              </a:rPr>
              <a:t>Describing the stages of SOLO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91840" y="1988640"/>
            <a:ext cx="3816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rrelevant or not given information is shown as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Given facts, ideas, information are shown by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lack d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student answering the question is represented by the 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riangle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response or given answer to the question is shown by the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levant information that is not given in the question is shown by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0400" y="1268280"/>
            <a:ext cx="72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diagram below the symbols shown repres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53080" y="5589720"/>
            <a:ext cx="43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This key is used to explain each stage on the following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3068640"/>
            <a:ext cx="2232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1280" y="2421000"/>
            <a:ext cx="252108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284720" y="4941360"/>
            <a:ext cx="2087640" cy="574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48240" y="3645000"/>
            <a:ext cx="504720" cy="431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11640" y="3716280"/>
            <a:ext cx="360360" cy="77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01080" y="3645000"/>
            <a:ext cx="504720" cy="431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356000" y="3933720"/>
            <a:ext cx="3745080" cy="719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930920" y="1914480"/>
            <a:ext cx="3962160" cy="3029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6600"/>
                </a:solidFill>
                <a:latin typeface="Arial"/>
              </a:rPr>
              <a:t>Unistructural questions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4752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o answer the question students need the knowledge or use of only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piece of given information, fact, or idea, that they can get directly from the problem.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6600"/>
                </a:solidFill>
                <a:latin typeface="Arial"/>
              </a:rPr>
              <a:t>Unistructural example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" y="1539720"/>
            <a:ext cx="8229600" cy="44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6600"/>
                </a:solidFill>
                <a:latin typeface="Arial"/>
              </a:rPr>
              <a:t>Multistructural questions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7560"/>
            <a:ext cx="43909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udents need to know or use more than one piece of given information, fact, or idea, to answer the question, but do not integrate the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is is fundamentally an unsorted, unorganised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lis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32385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19280" y="1843200"/>
            <a:ext cx="5762520" cy="4610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6600"/>
                </a:solidFill>
                <a:latin typeface="Arial"/>
              </a:rPr>
              <a:t>Multistructural example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88000" y="2133720"/>
            <a:ext cx="37447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Note that a student may choose to answer this by measuring one side of the arrow and multiplying by 2 which shows relational thin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However the question does not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requir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 them to do this so we cannot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expec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 them to use this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6600"/>
                </a:solidFill>
                <a:latin typeface="Arial"/>
              </a:rPr>
              <a:t>Turn and talk 1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9120" y="1988640"/>
            <a:ext cx="8229600" cy="21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516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ink of some examples from your subject area that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533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unistruc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533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multistructural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discuss these with a colleag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3924360" cy="32385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6600"/>
                </a:solidFill>
                <a:latin typeface="Arial"/>
              </a:rPr>
              <a:t>Relational questions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87560"/>
            <a:ext cx="38163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se questions require students to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integrat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more than one piece of given knowledge, information, fact, or id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t least two separate ideas are required that, working together, will solve the problem.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1960" y="587880"/>
            <a:ext cx="7466760" cy="7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6600"/>
                </a:solidFill>
                <a:latin typeface="Arial"/>
              </a:rPr>
              <a:t>Relational example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494172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: this is a relational question because students have to integrate and apply a range of information. They also need to realise that going 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slower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 means 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adding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611280" y="1844640"/>
            <a:ext cx="7850160" cy="2527560"/>
            <a:chOff x="611280" y="1844640"/>
            <a:chExt cx="7850160" cy="2527560"/>
          </a:xfrm>
        </p:grpSpPr>
        <p:sp>
          <p:nvSpPr>
            <p:cNvPr id="117" name=""/>
            <p:cNvSpPr/>
            <p:nvPr/>
          </p:nvSpPr>
          <p:spPr>
            <a:xfrm>
              <a:off x="611280" y="1844640"/>
              <a:ext cx="785016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Verdana"/>
                </a:rPr>
                <a:t>At the school swimming sports four children completed in the fifty metres freestyle hea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Verdana"/>
                </a:rPr>
                <a:t>Joe came first with a time of 40.395 second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Verdana"/>
                </a:rPr>
                <a:t>Mary came second, Sam came third and David came fourth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Verdana"/>
                </a:rPr>
                <a:t>In the next heat, Jan finished with a time        of a second slower than Jo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Verdana"/>
                </a:rPr>
                <a:t>What was her time? _____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70360" y="3490920"/>
              <a:ext cx="870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Verdana"/>
                </a:rPr>
                <a:t>_27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39640" y="1773360"/>
            <a:ext cx="7993080" cy="29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6600"/>
                </a:solidFill>
                <a:latin typeface="Arial"/>
              </a:rPr>
              <a:t>Extended abstract questions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1986120"/>
            <a:ext cx="446544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se questions involve a higher level of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abstraction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  The items require the student to go beyond the given information, knowledge, information, or ideas and to deduce a more general rule or proof that applies to all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48360" y="2133720"/>
            <a:ext cx="30099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61800" y="1628640"/>
            <a:ext cx="5400720" cy="2762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807840" y="583920"/>
            <a:ext cx="74739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6600"/>
                </a:solidFill>
                <a:latin typeface="Arial"/>
              </a:rPr>
              <a:t>Extended abstract example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2060640"/>
            <a:ext cx="35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An answer requires the explicit expression of understanding of a general principle that applies beyond the specifics of this particular situation. Students need to ‘go beyond the given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67248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57280"/>
            <a:ext cx="77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Who will find this workshop useful?</a:t>
            </a:r>
            <a:r>
              <a:rPr b="0" lang="en-AU" sz="36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4520" y="1341360"/>
            <a:ext cx="7557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76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276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ndicates / department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276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oL facilitators</a:t>
            </a:r>
            <a:r>
              <a:rPr b="0" lang="en-A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637000"/>
            <a:ext cx="77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How to use this worksho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3213000"/>
            <a:ext cx="83534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71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update, review and/or reflect on classroom questioning practice.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s a focus for professional development in assessment for learning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support AtoL programmes in schools.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55156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Link: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If you are interested in classroom questioning and learning conversations you may also wish to go to: (link to TKI workshop at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ki.org.nz/r/assessment/atol_online/ppt/teacher_student_conversations_28.5.pp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6600"/>
                </a:solidFill>
                <a:latin typeface="Arial"/>
              </a:rPr>
              <a:t>Turn and talk 2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1987560"/>
            <a:ext cx="619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iscuss examples of questions that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tended abs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6360" y="549000"/>
            <a:ext cx="77929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ow can I create deeper questions?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78832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ke a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istructura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qu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k for a list of 2 or more things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ltistructura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t the list of things into the qu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k what they have in common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ona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k what class of event, personality, situation, rule, etc. appli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e list of possible wrong answers to go with correct answer to create a multi-choice question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tended abstract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76320" y="583920"/>
            <a:ext cx="71611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6600"/>
                </a:solidFill>
                <a:latin typeface="Arial"/>
              </a:rPr>
              <a:t>Algebra: Patterns in number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3212640"/>
            <a:ext cx="8569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ow many sticks are needed for 3 houses?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nistructural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ow many sticks are there for 5 houses?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ultistructural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8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f 52 houses require 209 sticks, how many sticks do you need to be able to make 53 houses?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relational)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8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ake up a rule to count how many sticks are needed for any number of houses.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extended abstr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700360" y="1773360"/>
          <a:ext cx="17240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1773360"/>
                    <a:ext cx="17240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932360" y="1844640"/>
          <a:ext cx="3095640" cy="911160"/>
        </p:xfrm>
        <a:graphic>
          <a:graphicData uri="http://schemas.openxmlformats.org/drawingml/2006/table">
            <a:tbl>
              <a:tblPr/>
              <a:tblGrid>
                <a:gridCol w="1469880"/>
                <a:gridCol w="538200"/>
                <a:gridCol w="511200"/>
                <a:gridCol w="5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826920" y="2060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Gi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6600"/>
                </a:solidFill>
                <a:latin typeface="Arial"/>
              </a:rPr>
              <a:t>Try it out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 your curriculum area, take a unistructural question and develop it int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99cc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ultistruc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99cc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lationa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99cc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tended abstract qu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2920" y="54900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Some things to think about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41080" y="1268280"/>
            <a:ext cx="78469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se versus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question must be phrased in such a way as to gain the type of response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ep thinking and difficu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estions that are hard and require long responses do not necessarily require students to think de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ep thinking an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ep thinking can be a given if it becomes a learned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day’s extended abstract question can become tomorrow’s relational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th ‘surface’ and ‘deep’ questions are needed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e is not better than the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a tappet?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unistructural and technically h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ylindrical component that transmits motion from the cam to the valve stem. (relational and technically h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most important in a car: grunt, looks, safety, or economy? And why?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tended abstract but eas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unt and looks (multistructural but eas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950400" y="583920"/>
            <a:ext cx="71866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6600"/>
                </a:solidFill>
                <a:latin typeface="Arial"/>
              </a:rPr>
              <a:t>In summary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281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OLO is a true hierarchic taxonomy – increasing in quantity and quality of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OLO is a powerful tool in differentiating curriculum and providing cognitiv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OLO allows teachers and learners to ask deeper questions without creating new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OLO is a powerful metacognitive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  <a:ea typeface="Arial"/>
              </a:rPr>
              <a:t>References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attie, J.A.C., &amp; Brown, G.T.L. (2004, September).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Cognitive processes in asTTle: The SOLO taxonomy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 asTTle Technical Report #43, University of Auckland/Ministry of Education.</a:t>
            </a:r>
            <a:br>
              <a:rPr sz="2400"/>
            </a:b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N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ki.org.nz/r/asttle/pdf/technical-reports/techreport43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iggs, J.B. (1999).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aching for Quality Learning at University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 Buckingham: SRHE/Open University P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s, J.B.,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llis, K.F. (1982)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uating the Quality of Learning: the SOLO taxonom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 York: Academic P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79640" y="549000"/>
            <a:ext cx="5122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66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04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en asTTle items were being designed the developers needed to ensure that test questions had differing levels of cognitive demand that required students to think deeply as well as at a surface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y was this an iss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133720"/>
            <a:ext cx="78451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5475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6600"/>
                </a:solidFill>
                <a:latin typeface="Arial"/>
              </a:rPr>
              <a:t>Levels of thinking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s we know, not all thinking or knowing i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Yet 80% or more of all questions teachers ask (spoken or written) can be answered with lower-order thinking skil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y recall or rememb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y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y simple handling of a restricted set of ideas, data,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f we can develop students’ higher-order thinking skills this will enhance their metacognitive abilities and hence their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1268280"/>
            <a:ext cx="78454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asTTle team looked f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broad cognitive categories (a taxonomy) that would describe thinking processes in a scale of increasing difficulty or complex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O is such a tax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You may also be familiar with Bloom’s Taxonomy of Educational Outcomes. This is referred to in another TKI assessment workshop and can be accessed at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ki.org.nz/r/assessment/atol_online/ppt/teacher_student_conversations_28.5.pp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870200" y="583920"/>
            <a:ext cx="53863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6600"/>
                </a:solidFill>
                <a:latin typeface="Arial"/>
              </a:rPr>
              <a:t>Why use SOLO?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640" y="1339920"/>
            <a:ext cx="777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OLO is a true hierarchic taxonomy – increasing in quantity and quality of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OLO is a powerful tool in differentiating curriculum and providing cognitive challenge for lea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OLO allows teachers and learners to ask deeper questions without creating new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OLO is a powerful metacognitive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ll asTTle tests have been developed with a minimum of 25% surface and 25% deep questions – the balance can be an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What is SOLO?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77738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O stands for the Structure of Observed Learning Outcomes. It was developed by Biggs and Collis (1982). Biggs describes SOLO as “a framework for understanding”. (1999, p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LO identifies five stages of understanding. Each stage embraces the previous level but adds something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slides identify and describe the five levels or stages and provide examples of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4360" y="54936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The stages of SO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4520" y="1268280"/>
            <a:ext cx="79898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27612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tructural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the student acquires bits of unconnected information that have no organisation and make no sense. This is not a stage that we want to foster through questioning so we will not pursue it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istructural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students make simple and obvious connections between pieces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ultistructural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a number of connections are made, but not the meta-connections between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onal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the students sees the significance of how the various pieces of information relate to one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tended abstrac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at this level students can make connections beyond the scope of the problem or question, to generalise or transfer learning into a new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6600"/>
                </a:solidFill>
                <a:latin typeface="Arial"/>
              </a:rPr>
              <a:t>Surface and deep thinking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Unistructural and multistructural questions test students’ surface thinking (lower-order thinking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lational and extended abstract questions test deep thinking (higher-order thinking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Use of SOLO allows us to balance the cognitive demand of the questions we ask and to scaffold students into deeper thinking and meta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940520" y="260280"/>
            <a:ext cx="952560" cy="943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4:06:38Z</dcterms:created>
  <dc:creator>Stefen Cook</dc:creator>
  <dc:description/>
  <dc:language>en-US</dc:language>
  <cp:lastModifiedBy>ross</cp:lastModifiedBy>
  <dcterms:modified xsi:type="dcterms:W3CDTF">2007-01-24T22:33:53Z</dcterms:modified>
  <cp:revision>15</cp:revision>
  <dc:subject/>
  <dc:title>Slide 1</dc:title>
</cp:coreProperties>
</file>