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D44-11CE-41D8-B7B8-F56910AD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85D-C49F-4FEF-8A79-B9D2C368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657-DC42-46A6-8BEB-4B863A43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FEC-82B9-482C-8764-AC0DEF69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96EB-A34A-4573-B34E-02A7E740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A731-C300-4659-88F4-45F29C5E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F962-277A-42FF-A75D-9DEC1164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D98A-C691-4A57-824E-71828883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0143-8322-4FA7-90D7-D9B9C617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62B3-C602-46CF-8A11-03A49730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B74F-5007-405B-B42D-EED9170A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777-54A3-4115-AB2E-BB4BC1D8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02EC-9927-4CA4-B28E-7DF8E102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2F4E-4521-495A-AE57-258FB174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284E-362B-4FD0-8ABA-B507B67A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BDC2-42DD-4254-A286-FC7AE2B1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6B48-2FEC-4D2F-87A7-7CF5033E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137-93DB-41A3-B331-A4B37D44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2B6-B6AB-4E09-9DD1-F0BE325B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965A-32B3-4283-BE11-1AB294DF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F8F-E508-4AD8-9147-914E8AD0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929-9DC6-4F11-8E1E-0C2AB85B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768-3D28-4E1C-A7F8-19A3B761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A22-5BAC-4A48-B164-7F20A4E6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16D0-BC75-41C0-B60B-83737F2A3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EE5C-F1A9-4A70-99D1-D904BB685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he Brain Lea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eton County School Distr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ministrative Meeting –     July 28,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hippo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4864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838080"/>
            <a:ext cx="5486400" cy="5105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276720"/>
            <a:ext cx="5410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190512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79640" y="11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3840" y="1600200"/>
            <a:ext cx="139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t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 Ba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it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91120" y="83808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8280" y="1676520"/>
            <a:ext cx="155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lis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u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hesiz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46120" y="367200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z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040" y="3657600"/>
            <a:ext cx="1686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ling Ba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640080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6095880"/>
            <a:ext cx="184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mbic M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457200"/>
            <a:ext cx="830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12080" y="-6192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rebral M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914400"/>
            <a:ext cx="4554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457200"/>
            <a:ext cx="622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ain Transmi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2362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urons transmit impulses along an axon and across the synapse to the dendrites of the neighboring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Neuron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1,000,000,000,000,000 synaps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ing occurs by changing the synapses so that the influence of one neuron on another also chan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re complex the skills demanded in an occupation, the more dendrites were found on the neurons – creates more sites in which to store learn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Neuronsmall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495680" cy="3217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How the Brain Learn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ections the brain finds useful become permanent; those not useful are eliminated as the brain selectively strengthens and prunes connections based on experi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implications for teach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Neuronsmall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495680" cy="3217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ffective Teach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05280" y="22096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sential elements of effective instr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etent teac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ant stream of deci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udents actively engag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atibility to how students lea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cainelearningHonesty800X600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525780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Brain is a novelty seek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657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rain has a persistent interest in novel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nvironment that contains mostly predictable stimuli lowers the brain’s 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brain-sections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52578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Novelty in Less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ment – get the blood f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-sensory Instruction – interesting colorful visuals - &amp; talk about their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z Games – helps students rehearse – adds repetitions for long term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 – Mr. Mor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ll dynamic and interactive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limits its scope to the major cerebral operations that deal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e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rieving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rts that are most useful to educ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formation Processing Mod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21932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981080"/>
            <a:ext cx="1371600" cy="486000"/>
          </a:xfrm>
          <a:prstGeom prst="rightArrow">
            <a:avLst>
              <a:gd name="adj1" fmla="val 50000"/>
              <a:gd name="adj2" fmla="val 7055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274320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u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581280"/>
            <a:ext cx="1523880" cy="486000"/>
          </a:xfrm>
          <a:prstGeom prst="rightArrow">
            <a:avLst>
              <a:gd name="adj1" fmla="val 50000"/>
              <a:gd name="adj2" fmla="val 7838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4648320"/>
            <a:ext cx="1600200" cy="485640"/>
          </a:xfrm>
          <a:prstGeom prst="rightArrow">
            <a:avLst>
              <a:gd name="adj1" fmla="val 50000"/>
              <a:gd name="adj2" fmla="val 8237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2895480"/>
            <a:ext cx="1143000" cy="10670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2819520"/>
            <a:ext cx="1447560" cy="121428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2819520"/>
            <a:ext cx="1738440" cy="1295280"/>
          </a:xfrm>
          <a:prstGeom prst="rightArrow">
            <a:avLst>
              <a:gd name="adj1" fmla="val 50000"/>
              <a:gd name="adj2" fmla="val 3355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579132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5105520"/>
            <a:ext cx="1447920" cy="1295280"/>
          </a:xfrm>
          <a:prstGeom prst="wedgeRectCallout">
            <a:avLst>
              <a:gd name="adj1" fmla="val -25000"/>
              <a:gd name="adj2" fmla="val 5943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1000" y="2895480"/>
            <a:ext cx="914400" cy="1371600"/>
          </a:xfrm>
          <a:prstGeom prst="foldedCorner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1143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46720" y="57456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f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1371600"/>
            <a:ext cx="4938480" cy="485640"/>
          </a:xfrm>
          <a:prstGeom prst="leftArrow">
            <a:avLst>
              <a:gd name="adj1" fmla="val 50000"/>
              <a:gd name="adj2" fmla="val 25422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152388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220968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3048120"/>
            <a:ext cx="1522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88620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4952880"/>
            <a:ext cx="2286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83808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Exper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533412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238880" y="837720"/>
            <a:ext cx="137160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8610480" y="990360"/>
            <a:ext cx="91440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6920" y="4495680"/>
            <a:ext cx="88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gni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elie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rincipleswheel_r1_c1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716292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m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term mem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early steps of temporary memory that lead to stable long term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mediate Memory – holds data for 30 sec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ing Memory – limited capacity – conscious activity – captures our focus and demands our attention – occurs in the frontal lob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orking Mem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acity – varies with 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er 5 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ween 5 - 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4 and ol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imited capacity explains why we need to memorize a song or poem in stages – increase capacity through chun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an this relate to learning new vocabulary wor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orking Mem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Lim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 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-adolescents – 5 – 1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olescents &amp; Adults – 10 – 2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igue or boredom sets in resulting in a loss of focus  - unless a change in the way the individual is dealing with an i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4191120"/>
            <a:ext cx="76320" cy="75960"/>
          </a:xfrm>
          <a:prstGeom prst="rightArrow">
            <a:avLst>
              <a:gd name="adj1" fmla="val 50000"/>
              <a:gd name="adj2" fmla="val 2511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466640"/>
            <a:ext cx="6002280" cy="952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ata Affecting Surviv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2438280"/>
            <a:ext cx="4647960" cy="1905120"/>
          </a:xfrm>
          <a:prstGeom prst="rightArrow">
            <a:avLst>
              <a:gd name="adj1" fmla="val 50000"/>
              <a:gd name="adj2" fmla="val 6099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Generating Emo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4114800"/>
            <a:ext cx="3353040" cy="990720"/>
          </a:xfrm>
          <a:prstGeom prst="rightArrow">
            <a:avLst>
              <a:gd name="adj1" fmla="val 50000"/>
              <a:gd name="adj2" fmla="val 8461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for new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685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54720" y="380880"/>
            <a:ext cx="4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orities for Working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iteria for Long term Stor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cannot recall what we have not st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otional experiences have a high probability of being permanently st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es it make sense?  (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h now I se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arner can understand based upon exper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es it have meaning?  (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ow will I use 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item relev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nse &amp; Mea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se and Meaning are independent of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new learning is comprehensible (sense) and can be connected to past experiences (meaning) – retention is dramatically impro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nse &amp; Mea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often listen to things that make sense but lack mea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y do not find meaning after the learning episode – there is little likelihood of long term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rs often wonder why students forgot the lesson – (meaning – relevance must be clear)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rn it because its on P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nse &amp; Mea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t experiences always influence new lear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rs spend about 90% of their planning time devising lessons so that students will understand the objective (sense) – they need to be more mindful of helping students establish mea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ing the curriculum increases meaning and re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achers must understand the intent of the standar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438280" y="1981080"/>
            <a:ext cx="2133720" cy="1676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3733920"/>
            <a:ext cx="2133720" cy="1676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1981080"/>
            <a:ext cx="1828800" cy="1676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733920"/>
            <a:ext cx="1828800" cy="1676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7960" y="1219320"/>
            <a:ext cx="39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57913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 Present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94080" y="270000"/>
            <a:ext cx="49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ability of being Stored 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ten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has shown tha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atest loss of newly acquired information or a skill occurs within 18 – 24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learner cannot recall information within 24 hours – there is a high probability that it was not permanently sto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he Brain Lea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marg1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510552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lf Concep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um – very low to very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otions play an important part in forming a person’s self concep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ople will participate in learning activities that have yielded success for them and avoid those that have produced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lf Concep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pting or Rejecting New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ople will participate in learning activities that have yielded success for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ill avoid those that have produced fail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lf Concep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erarchy of Data Proces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concept struggles with an emotion, the emotion almost always wi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possible for the rational system (frontal lobe) to override emotions – but that takes time and conscious eff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lf Concep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earner must believe that participating in the learning situation will produce new successes rather than repeat past fail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eacher teaches children, not merely content.  It is vital to create the conditions for success – educational &amp; human relations skills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intentionally maximizing succes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lf Concep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lf concept is important in controlling the feedback loop and determining how the individual will respond to almost any new learning situ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implications for instruc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mputer Model - Comparis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in performs more 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takes time for the nerve impulse to travel along the ax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rain’s working memory is lim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otions play an important role in human processing and crea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as generated by the brain often come from im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rain changes its own properties as a result of exper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structivis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s are more likely to gain greater understanding of and derive greater pleasure from learning when allowed to transform the learning into creative thoughts and produ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learning on a continuum, direct instruction provides a foundation, inquiry or constructivism, cooperative learning can take the learning to new and creative leve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he Brain Learns –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it is Importan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do students remember best in a learning episod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can I help students understand and remember more of what I te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is focus so important, and why is it so difficult to g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can humor and music help the teaching learning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can I get students to find meaning in what they are learn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is transfer such a powerful principle of learning, and how can it destroy a lesson without my realizing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he Brain Learns –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spects associated with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he brain processes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y – Retention &amp;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wer of Trans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in Specialization an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rain and the 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ing Skills an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structional Approach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 I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perative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disciplinary Un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Thematic Un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labelanswers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Using Humor to Enhance Learning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a positive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re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otions enhance re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 feelings from laughter increase probability of re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an effective discipline t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easing or sarca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working-memory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809880" cy="2381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ncrease processing time through motiv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Interest – powerful motiv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Accou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m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el of Conc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191120" y="2514600"/>
          <a:ext cx="495288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514600"/>
                    <a:ext cx="4952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ncrease processing time through motiv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Level of Conc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con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ility &amp; Proxim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ying the amount of time allotted to complete a t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ying the amount of help or support avail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48320" y="2514600"/>
          <a:ext cx="449568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14600"/>
                    <a:ext cx="44956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reating Meaning in new Learning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urately &amp; unambiguously highlight the critical attrib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acher presents first to ensure students get it correct during this prime time when retention is the high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controversial issues that evoke strong emotions that can redirect the learner’s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otions can shut out rational thou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reating Meaning in new Learning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examples from students’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ngs prior knowledge into working memory which promotes making sense and attaching mea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important that the examples are clearly relevant to the new learning – should be planned in adv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reating Meaning in new Learning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ng artificial Mea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nemonic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es – Great La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y G B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Using Closure to Enhance Sense &amp; Meaning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during closure that a student often completes the rehearsal process and attaches sense and meaning to the new lear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ure is different from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udent does most of the work by mentally rehearsing and summarizing the concepts and deciding whether they make sense and have mea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Using Closure to Enhance Sense &amp; Meaning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ure is an investment that can pay off dramatically in increased retention of lear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ure is one of the most under used elements of effective instr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Using Closure to Enhance Sense &amp; Meaning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ure can occur at various tim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an start a lesson – think about two causes of WWII that we studied yesterday and be prepared to discuss them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an occur during a lesson – Complete this problem on area before we move on to finding the volume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should also take place at the end – to tie the entire lesson together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terior Parts of the Bra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ntal Lobes – planning &amp; th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oral Lobe – sound, speech, L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ipital – visual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ietal lobe – orientation, calc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Brainlobes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343400" cy="3522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ior Parts of the Bra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bic System – generation of emo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lamus – processes sensory stimuli – except sm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ppocampus – checks info in working memory to stored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brain-sections-2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518148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ntal Lobes – Planning and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oral Lobes – sound &amp; speech &amp; some Long term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ipital Lobe – visual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ietal Lobe – orientation, calculation, and certain types of recogn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rebru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ing, memory, speech and muscular movement are controlled by areas in the cerebr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ntal Lobe – Monito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Order th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ng Problem Solv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ting excesses of the emotional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bic System – generation of emo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lamus – directs sensory information to other parts of the brain. (except smel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ppocampus – constantly checks info relayed to working memory &amp; compares to stored experiences. (essential for creating meaning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ygdala – plays an important part in emotions – especially f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23:23:50Z</dcterms:created>
  <dc:creator>District</dc:creator>
  <dc:description/>
  <dc:language>en-US</dc:language>
  <cp:lastModifiedBy>District</cp:lastModifiedBy>
  <dcterms:modified xsi:type="dcterms:W3CDTF">2005-09-01T12:45:54Z</dcterms:modified>
  <cp:revision>87</cp:revision>
  <dc:subject/>
  <dc:title>PowerPoint Presentation</dc:title>
</cp:coreProperties>
</file>