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4C8-7D62-4580-A200-74CF1866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model of the square numbers using the side and sid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is it a good model? Why? Point out the conn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a good model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good models? What makes a good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A40-4F4C-4866-A3D6-0C38B5B4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0F6-E9C9-4426-95CE-83D61C8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824-BBC9-4027-B5DC-73A2FB72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982-D26B-4850-95F5-D4D74689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E4E-1293-4A75-9B6E-B523690B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C18-4B09-4FB2-8E79-68E8E7F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1E4D-1AD5-4205-9401-46E8B89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22A-BA2E-4974-9794-1C14B5A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A4F-4E89-4EB0-AF81-B4BEFC9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6F0-8AD3-4071-97AB-73CFA43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571-6B47-4B88-B608-E5C8ABC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756-CBA2-4451-A6D5-046920B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37B-1609-4955-BA46-2507DDC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BFD9-8601-4A07-B8C9-804313C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32D-03C4-409E-B9B5-69AB147F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C82E-6138-4AF9-9BB5-82592E8D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810-074F-4B8E-ABDA-197E4CE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ED0-885F-4047-B9B2-99DB345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564-B35A-4964-921C-0E3852CC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159-E5F5-492D-B77D-0EA709E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EC9-33F3-426B-A96B-590296F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D13-28F0-4EE5-A75B-6C2D671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B21-F4AE-4F96-BF10-7479834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814-1B37-4C29-A77F-9A06766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C6FB-DD65-4FC2-A443-BE02632E26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187-0BE4-402C-88B0-DE1A36C38D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nec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Mat Adviso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Odd Conn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t of odd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= { 1, 3, 5, 7, 9, …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m of the odd numbers are squ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{1, 4, 9, 16, 25, …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sk 2. Make a model to show this conn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Triangular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= {1, 2, 3, 4, 5, …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um of the natural numbers are the triangular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 = { 1, 3, 6, 10, 15, 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3. Make models of T1, T2, T3, and T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Triangular Conn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ice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+ T3 = S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3 + T4 = S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iangular numbers are connected to the square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f A = B and B = C then A =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dds are connected to the squares and the square are connected to the triangular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iangle numbers must be connected to the odd numb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4. Make a model to show this conn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dds and Eve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 odd numbers and even numbers are very closely related. If you are not one then you are the oth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the even numbers must be connected to both the squares and the triangular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5. Make models to illustrate these conn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andshakes and Chor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5 people in a room and they all shake hands, how many handshakes happened? Why? Explai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lines can join 5 do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are these problems connected to numb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 on…and on…and o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he multiples of 3 and 4 and …, the powers of 2, and 3 and 4…, the factors, the primes, the shapes, the angles, the decimals, the fractions, the mean, the combinations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hematics is conn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 are but 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gs derive their being and nature by mutual dependence and are nothing in themsel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garjuna, a buddist sage of long a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Tao of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Fritjof Capra PhD (Theoretical Physic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65560" y="8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Conne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.ppt illustrates the way in which numbers are connected to each other and geometry as a starting point to understanding connectio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develops new insights to curriculum interpretation and scheme development for the classroom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ttempts to guide teachers to the real purposes of learning mathemat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o the power of modelling id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 = {1, 2, 3, …}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al numbers are made up of odd and even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 model of an odd n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 = {1, 2, 3, …}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al numbers are made up of odd and even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dd n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a model? Is it a good mod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your model convey the essence of oddness?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281952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281952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35268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335268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 = {1, 2, 3, …}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al numbers are made up of odd and even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 model of an even n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 = {1, 2, 3, …}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al numbers are made up of odd and even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ven n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a model? Is it a good mod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your model convey the essence of evenness?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89548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42900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89548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4290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89548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4290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289548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your models to explore the propert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D and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+ O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+ E =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+ E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x O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x E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x E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ropert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propertie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ine a smelly little f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take away the smell, the colour, the length, the width, the depth, the weight, the feel, the sound it makes and any other attribute it might ha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lef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00:50:43Z</dcterms:created>
  <dc:creator>SSS-Waikato University</dc:creator>
  <dc:description/>
  <dc:language>en-US</dc:language>
  <cp:lastModifiedBy>SSS-Waikato University</cp:lastModifiedBy>
  <dcterms:modified xsi:type="dcterms:W3CDTF">2007-06-10T19:14:33Z</dcterms:modified>
  <cp:revision>9</cp:revision>
  <dc:subject/>
  <dc:title>Connections</dc:title>
</cp:coreProperties>
</file>